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3CDF-8F7F-4E37-9B04-5B62760E0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C065-1C85-4B77-B2CC-0934D51C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4C9D-9DA4-485A-A793-39BF5788A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EDA7-18C8-4512-B4A4-FC920A0BB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4A79-E5A1-4668-9949-DD1026760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D1E9-5358-4489-A2D7-8138ADB8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D3CD-3CE3-449A-886F-95124475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E05F-91AB-425A-A9FE-64216007D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6343-E9FF-41EB-BA1C-38CC84B1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41641-04EF-4A6F-9E8E-091700BC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FF93-D9CE-462F-BCCA-9EA23F5E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F768-30F3-4199-9020-70CB83B3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F2DD-1EF9-405C-9CE2-B6BE0A9B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06F2-ACB1-427F-945F-03A41092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107B-E303-4CBD-AC6B-AB65B02A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404C-4D3C-49BC-B0BD-0BFA8523F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EB46-6A5D-4FA8-A038-6A1B39174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6B71-6D2B-45DD-87DB-DCCDBDD6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5D99-B4B0-4968-A2A7-C47C2E70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0862-A90D-4834-9BBF-72CDFA14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E955-C430-4341-AB5C-C56B1C16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D964-83E1-40C4-884D-BC27C38C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6E0B-E8EB-4D01-8BBD-A6BE272A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6D01-7B77-41AF-9579-D1843257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096E-F16E-4A93-89D3-47D36F9B1F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5B83-6AEA-4E07-B6DA-E268A2AA96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Renewable Energy: Wind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rew Augus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ne Brag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ind Introduc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Wind Energy 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 energy another form of solar energy that is produce by the uneven heating in the atmosphere and the rotation of the ear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 Energy is produce from Wind Turbines. When winds are active the blades of the wind turbines are then turned to convert kinetic energy to electri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How Wind is Create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Wind is Cre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used by the uneven heating of Earth’s surface from the s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th’s surface is made up of different types of land and water, which absorb heat at different rates and causes the air to move in patter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886200" y="4038480"/>
            <a:ext cx="342900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228600"/>
            <a:ext cx="5038560" cy="64771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dvantages of Wind Energ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 energy is ample. It is created constantly in many different pla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 energy can be widely distribu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 energy is one of the cheapest ways to distribute ener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ing wind energy does not give off toxic gas emiss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419720" y="3889440"/>
            <a:ext cx="4724280" cy="29685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isadvantages of Wind Energ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 Turbines adds on to noise pol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 cannot be predi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harm animals that f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 energy cannot be dependable completely due to an area where large amounts of wind power is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ac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wind increases while turning the turbines it will da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ork Cite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indeis.anl.gov/guide/basics/index.cf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2:47:22Z</dcterms:created>
  <dc:creator>sasd</dc:creator>
  <dc:description/>
  <dc:language>en-US</dc:language>
  <cp:lastModifiedBy>sasd</cp:lastModifiedBy>
  <dcterms:modified xsi:type="dcterms:W3CDTF">2009-04-29T12:48:20Z</dcterms:modified>
  <cp:revision>6</cp:revision>
  <dc:subject/>
  <dc:title>  Renewable Energy: Wind  </dc:title>
</cp:coreProperties>
</file>